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EE10E-4FFD-42C0-9C7C-A2DBE7611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75B7-1C71-4709-A58A-4881B1DF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215F5-3105-49C1-A05D-792815F77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6C43A-42B1-4EC1-AD31-99246CC6B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6D812-2156-4E22-A9D3-E0B3AC69E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12376-6681-428F-BCEF-F51267847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3E95E-620D-4EE7-B842-9B4EA021B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EF35-0291-430F-935B-B4EE73B79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5F911-3E72-4123-AE5C-BE5A2DFC5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0C26-B9F1-429C-A89E-4B920C8B0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F0EEA-C13D-4746-AE02-E72A8D5D7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A4C6-84E1-4E63-9615-E83089612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430D4-F11F-47BA-8323-41BE23D6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ED02B-549C-4CC7-BCBB-07D6B0F82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CB9FA-3ECE-4560-A36F-CE152F921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1084A-2252-4ED5-B06F-069BD026D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DC817-A455-4D31-90D3-49302956D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22D4-EE1A-4557-89FA-5ACB2182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A48D5-F016-4A5F-A4DC-5D53A73D6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4277C-E1CB-43C1-AFA1-1E8DCA21E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5D6A3-7B71-40D0-82FE-88100C0DE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B862-51DA-4C7A-B384-7D6800D8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F2DEE-E327-4845-9CE5-A5CB8E85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24928-092E-4CBA-A485-8EC4F54EA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0093-6654-41DF-A962-B4770940A29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D974-FD72-414C-9F99-8FDC332733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prog/programs/kids/grkids_museumpass.php" TargetMode="External"/><Relationship Id="rId3" Type="http://schemas.openxmlformats.org/officeDocument/2006/relationships/hyperlink" Target="http://www.chipublib.org/eventsprog/programs/kids/grkids_museumpass.php" TargetMode="External"/><Relationship Id="rId4" Type="http://schemas.openxmlformats.org/officeDocument/2006/relationships/hyperlink" Target="http://www.chipublib.org/eventsprog/programs/kids/grkids_museumpass.php" TargetMode="External"/><Relationship Id="rId5" Type="http://schemas.openxmlformats.org/officeDocument/2006/relationships/hyperlink" Target="http://www.chipublib.org/eventsprog/programs/kids/grkids_museumpass.php" TargetMode="External"/><Relationship Id="rId6" Type="http://schemas.openxmlformats.org/officeDocument/2006/relationships/hyperlink" Target="http://www.chipublib.org/eventsprog/programs/kids/grkids_museumpass.php"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hipublib.org/events/details/id/24747/" TargetMode="External"/><Relationship Id="rId3" Type="http://schemas.openxmlformats.org/officeDocument/2006/relationships/hyperlink" Target="http://www.chipublib.org/events/details/id/24747/" TargetMode="External"/><Relationship Id="rId4" Type="http://schemas.openxmlformats.org/officeDocument/2006/relationships/hyperlink" Target="http://www.chipublib.org/events/details/id/24747/" TargetMode="External"/><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371240"/>
            <a:ext cx="7848720" cy="3048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Bilingual 4220: Teaching Fine Arts and the Humanities in Linguistically Diverse Classroom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4602240"/>
            <a:ext cx="4267080" cy="134136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pril 2, 2009</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286000"/>
            <a:ext cx="77724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ce in the classroom</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teaching dance concep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d strategies for dance</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ion of dance</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 name=""/>
          <p:cNvSpPr/>
          <p:nvPr/>
        </p:nvSpPr>
        <p:spPr>
          <a:xfrm>
            <a:off x="1371600" y="1295280"/>
            <a:ext cx="5715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pic>
        <p:nvPicPr>
          <p:cNvPr id="101" name="" descr=""/>
          <p:cNvPicPr/>
          <p:nvPr/>
        </p:nvPicPr>
        <p:blipFill>
          <a:blip r:embed="rId2"/>
          <a:srcRect l="21406" t="21432" r="0" b="0"/>
          <a:stretch/>
        </p:blipFill>
        <p:spPr>
          <a:xfrm>
            <a:off x="6324480" y="3581280"/>
            <a:ext cx="1882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2286000" y="685800"/>
            <a:ext cx="4191120" cy="3124080"/>
          </a:xfrm>
          <a:prstGeom prst="rect">
            <a:avLst/>
          </a:prstGeom>
          <a:ln w="0">
            <a:noFill/>
          </a:ln>
        </p:spPr>
      </p:pic>
      <p:sp>
        <p:nvSpPr>
          <p:cNvPr id="103" name=""/>
          <p:cNvSpPr/>
          <p:nvPr/>
        </p:nvSpPr>
        <p:spPr>
          <a:xfrm>
            <a:off x="533520" y="3733920"/>
            <a:ext cx="7995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efits of Dance Educ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thy DeJean, lifelong dancer and dance educator at Lusher Alternative Elementary School in New Orleans, Louisiana, makes these observations abou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ce educ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600200"/>
            <a:ext cx="7772400" cy="44956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Dance for children is much needed in a school curriculum along with physical education, because it explores their potential in movement ... on any size, shape, or color of body.”</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I get a lot of feedback from classroom teachers who say, ‘I can tell these children have been with you and had dance because they are more assertive — not aggressive, but more assertive in their thinking and being able to share their though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Dance is a good experience for children who have a hard time sitting down. Once they come to movement and burn off some of that energy, they can focus on more sequential, factual information.”</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80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Boys do like to dance. I start them off using the word ‘movement.’ Some boys are beautiful at movement. They get to explore that. Girls widen their perspective. They see that it is not just one style — dance is about what you think, what you feel, what you se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609480"/>
            <a:ext cx="7772400" cy="54864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P.S. 156, The Waverly School of the Arts in Brooklyn, New York, former physical education teacher Scott Pivnik now teaches dance and movement, say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523880"/>
            <a:ext cx="7772400" cy="45720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The nice thing about dance is that it is nonconfrontational and completely cooperative. You learn how to work together as a group to make a final product, and everybody has to participate in order for it to look good.”</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676520"/>
            <a:ext cx="777240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Some people are going to look at this whole thing and say, ‘How do you know this is working?’ You just have to come in and look at it. There’s a level of self-confidence that develops, a level of poise that comes from this. Deep down inside it’s: ‘Wow, I can do thi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efore watching:</a:t>
            </a:r>
            <a:endParaRPr b="0" lang="en-US" sz="40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 you watch the program, consider the benefits of each approach:</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In what circumstances would each be effective?</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How would you incorporate each into an integrated curriculum unit?</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nouncements</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Events</a:t>
            </a: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inders: next class at the Chicago History; no class April 16 (work on Teaching Philosophy)</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1219320"/>
            <a:ext cx="77724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ch the Program: 30 minutes </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learner.org/libraries/artsineveryclassroom/v3beforewatching.html</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watching</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ould dance be incorporated into studies of other subjects, such as social studies, math, and scienc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might you incorporate the natural movements that children do every day into classroom learnin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066680"/>
            <a:ext cx="7772400" cy="5029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dance/movement be integrated (research/theories, and philosoph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classroom teachers need to know to integrate dance and movem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can dance be integrated (planning, environment, literature, instruction, adaptations, assessmen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me Practice</a:t>
            </a:r>
            <a:endParaRPr b="0" lang="en-US" sz="4000" spc="-1" strike="noStrike">
              <a:solidFill>
                <a:srgbClr val="ffffff"/>
              </a:solidFill>
              <a:latin typeface="Comic Sans MS"/>
            </a:endParaRPr>
          </a:p>
        </p:txBody>
      </p:sp>
      <p:sp>
        <p:nvSpPr>
          <p:cNvPr id="11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 word wall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ters of the alphabe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tonym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ord of the Day</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e by Lin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horeograph</a:t>
            </a:r>
            <a:endParaRPr b="0" lang="en-US" sz="4000" spc="-1" strike="noStrike">
              <a:solidFill>
                <a:srgbClr val="ffffff"/>
              </a:solidFill>
              <a:latin typeface="Comic Sans MS"/>
            </a:endParaRPr>
          </a:p>
        </p:txBody>
      </p:sp>
      <p:sp>
        <p:nvSpPr>
          <p:cNvPr id="12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oose a dance seed strategy from Chapter 11 and guide us through it.</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flections</a:t>
            </a:r>
            <a:endParaRPr b="0" lang="en-US" sz="4000" spc="-1" strike="noStrike">
              <a:solidFill>
                <a:srgbClr val="ffffff"/>
              </a:solidFill>
              <a:latin typeface="Comic Sans MS"/>
            </a:endParaRPr>
          </a:p>
        </p:txBody>
      </p:sp>
      <p:sp>
        <p:nvSpPr>
          <p:cNvPr id="12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scussion and Exit Ticke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fontScale="97000"/>
          </a:bodyPr>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hicago History Museum: meet there at 5 pm, 1601 N. Clark St.</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useum is easy to reach via public transportation. CTA buses 11, 22, 36, 72, 73, 151, and 156 stop nearby. The Brown Line Sedgwick station and Red Line Clark/Division station are also located approximately one half-mile from the Museum</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pass information at </a:t>
            </a:r>
            <a:r>
              <a:rPr b="0" lang="en-US" sz="2800" spc="-1" strike="noStrike" u="sng">
                <a:solidFill>
                  <a:srgbClr val="80ff00"/>
                </a:solidFill>
                <a:uFillTx/>
                <a:latin typeface="Comic Sans MS"/>
                <a:hlinkClick r:id="rId2"/>
              </a:rPr>
              <a:t>http://www.</a:t>
            </a:r>
            <a:r>
              <a:rPr b="0" lang="en-US" sz="2800" spc="-1" strike="noStrike" u="sng">
                <a:solidFill>
                  <a:srgbClr val="80ff00"/>
                </a:solidFill>
                <a:uFillTx/>
                <a:latin typeface="Comic Sans MS"/>
                <a:hlinkClick r:id="rId3"/>
              </a:rPr>
              <a:t>chipublib</a:t>
            </a:r>
            <a:r>
              <a:rPr b="0" lang="en-US" sz="2800" spc="-1" strike="noStrike" u="sng">
                <a:solidFill>
                  <a:srgbClr val="80ff00"/>
                </a:solidFill>
                <a:uFillTx/>
                <a:latin typeface="Comic Sans MS"/>
                <a:hlinkClick r:id="rId4"/>
              </a:rPr>
              <a:t>.</a:t>
            </a:r>
            <a:r>
              <a:rPr b="0" lang="en-US" sz="2800" spc="-1" strike="noStrike" u="sng">
                <a:solidFill>
                  <a:srgbClr val="80ff00"/>
                </a:solidFill>
                <a:uFillTx/>
                <a:latin typeface="Comic Sans MS"/>
                <a:hlinkClick r:id="rId5"/>
              </a:rPr>
              <a:t>org/eventsprog/programs/kids/grkids_museumpass</a:t>
            </a:r>
            <a:r>
              <a:rPr b="0" lang="en-US" sz="2800" spc="-1" strike="noStrike" u="sng">
                <a:solidFill>
                  <a:srgbClr val="80ff00"/>
                </a:solidFill>
                <a:uFillTx/>
                <a:latin typeface="Comic Sans MS"/>
                <a:hlinkClick r:id="rId6"/>
              </a:rPr>
              <a:t>.php</a:t>
            </a:r>
            <a:endParaRPr b="0" lang="en-US" sz="2800" spc="-1" strike="noStrike">
              <a:solidFill>
                <a:srgbClr val="ffffff"/>
              </a:solidFill>
              <a:latin typeface="Comic Sans MS"/>
            </a:endParaRPr>
          </a:p>
          <a:p>
            <a:pPr marL="332640" indent="-3326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r</a:t>
            </a:r>
            <a:endParaRPr b="0" lang="en-US" sz="2800" spc="-1" strike="noStrike">
              <a:solidFill>
                <a:srgbClr val="ffffff"/>
              </a:solidFill>
              <a:latin typeface="Comic Sans MS"/>
            </a:endParaRPr>
          </a:p>
          <a:p>
            <a:pPr marL="3326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914040"/>
            <a:ext cx="7772400" cy="5181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ults: $14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ents (13–22 with ID): $12 with audio tours</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ree for members of the Chicago History Museum, DuSable Museum, and National Museum of Mexican Art.</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dmission includes two audio tours: Chicago: Crossroads of America, a tour developed with the Second City (available in English and Spanish) and In Our Own Words, a tour created by local teens (English)</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3369960"/>
            <a:ext cx="7772400" cy="2725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ra Cisneros, April 14, 6 pm, Harold Washington Library </a:t>
            </a:r>
            <a:r>
              <a:rPr b="0" lang="en-US" sz="3200" spc="-1" strike="noStrike" u="sng">
                <a:solidFill>
                  <a:srgbClr val="80ff00"/>
                </a:solidFill>
                <a:uFillTx/>
                <a:latin typeface="Arial"/>
                <a:hlinkClick r:id="rId2"/>
              </a:rPr>
              <a:t>http://www.</a:t>
            </a:r>
            <a:r>
              <a:rPr b="0" lang="en-US" sz="3200" spc="-1" strike="noStrike" u="sng">
                <a:solidFill>
                  <a:srgbClr val="80ff00"/>
                </a:solidFill>
                <a:uFillTx/>
                <a:latin typeface="Arial"/>
                <a:hlinkClick r:id="rId3"/>
              </a:rPr>
              <a:t>chipublib</a:t>
            </a:r>
            <a:r>
              <a:rPr b="0" lang="en-US" sz="3200" spc="-1" strike="noStrike" u="sng">
                <a:solidFill>
                  <a:srgbClr val="80ff00"/>
                </a:solidFill>
                <a:uFillTx/>
                <a:latin typeface="Arial"/>
                <a:hlinkClick r:id="rId4"/>
              </a:rPr>
              <a:t>.org/events/details/id/24747/</a:t>
            </a:r>
            <a:r>
              <a:rPr b="0" lang="en-US" sz="3200" spc="-1" strike="noStrike">
                <a:solidFill>
                  <a:srgbClr val="ffffff"/>
                </a:solidFill>
                <a:latin typeface="Arial"/>
              </a:rPr>
              <a:t>Free</a:t>
            </a:r>
            <a:endParaRPr b="0" lang="en-US" sz="3200" spc="-1" strike="noStrike">
              <a:solidFill>
                <a:srgbClr val="ffffff"/>
              </a:solidFill>
              <a:latin typeface="Comic Sans MS"/>
            </a:endParaRPr>
          </a:p>
        </p:txBody>
      </p:sp>
      <p:pic>
        <p:nvPicPr>
          <p:cNvPr id="87" name="" descr=""/>
          <p:cNvPicPr/>
          <p:nvPr/>
        </p:nvPicPr>
        <p:blipFill>
          <a:blip r:embed="rId5"/>
          <a:stretch/>
        </p:blipFill>
        <p:spPr>
          <a:xfrm>
            <a:off x="3352680" y="990720"/>
            <a:ext cx="2210040" cy="174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fter-School Workshop on Sandra Cisneros</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ing History and Ourselves, April 15, 4:30-7:00, Bucktown/Wicker Park Branch Library, Free, rsvp </a:t>
            </a:r>
            <a:endParaRPr b="0" lang="en-US" sz="3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http://www2.facinghistory.org/Campus/Events.nsf/HTMLProfessionalDevelopment/1E8B2B58118487F48525754D0066255D?Opendocument</a:t>
            </a:r>
            <a:endParaRPr b="0" lang="en-US" sz="22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orytelling Performance</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Jumping Jambalaya, Thursday April 9, 3:15-4:15, Hall of Governors, GSU. Fre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 class:</a:t>
            </a:r>
            <a:endParaRPr b="0" lang="en-US" sz="4000" spc="-1" strike="noStrike">
              <a:solidFill>
                <a:srgbClr val="ffffff"/>
              </a:solidFill>
              <a:latin typeface="Comic Sans MS"/>
            </a:endParaRPr>
          </a:p>
        </p:txBody>
      </p:sp>
      <p:sp>
        <p:nvSpPr>
          <p:cNvPr id="9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n minutes to group-compose a brief article about where we’ve been going and events attended for the Bilingual Education Program newslett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ncepts</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view of Visual Art Concept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mlet revisite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pril is National Poetry Month! poets.org</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ance</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inder</a:t>
            </a:r>
            <a:endParaRPr b="0" lang="en-US" sz="4000" spc="-1" strike="noStrike">
              <a:solidFill>
                <a:srgbClr val="ffffff"/>
              </a:solidFill>
              <a:latin typeface="Comic Sans MS"/>
            </a:endParaRPr>
          </a:p>
        </p:txBody>
      </p:sp>
      <p:sp>
        <p:nvSpPr>
          <p:cNvPr id="9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n up online for Open House for Educators, May 11, 2009 </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www.artic.edu/aic/calendar/event?EventID=5623&amp;ProgramCategory=4</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990360"/>
            <a:ext cx="7772400" cy="5105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amlet in Prison</a:t>
            </a:r>
            <a:endParaRPr b="0" lang="en-US" sz="40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youtube.com/watch?v=9cjPcOK_WwU</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45:58Z</dcterms:created>
  <dc:creator>caitlin halstead</dc:creator>
  <dc:description/>
  <dc:language>en-US</dc:language>
  <cp:lastModifiedBy>caitlin halstead</cp:lastModifiedBy>
  <dcterms:modified xsi:type="dcterms:W3CDTF">2009-04-02T19:12:55Z</dcterms:modified>
  <cp:revision>16</cp:revision>
  <dc:subject/>
  <dc:title>Bilingual 4220: Teaching Fine Arts and the Humanities in Linguistically Diverse Classrooms</dc:title>
</cp:coreProperties>
</file>